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5AFB-5644-4C40-95B3-06085409FE4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7DE1-99D3-4EF3-BB68-D0C7F24692C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rządzanie Teoria i praktyka, red. Naukowa A.K Koźmiński, W. Piotroski, wyd. PWN Warszawa 2006 str. 6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F0B1-99CF-4E6B-A317-3B57C5AE206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rządzanie Teoria i praktyka, red. Naukowa A.K Koźmiński, W. Piotroski, wyd. PWN Warszawa 2006 str. 69-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06EC-4DD3-408D-AAA7-672C3C08320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rządzanie Teoria i praktyka, red. Naukowa A.K Koźmiński, W. Piotroski, wyd. PWN Warszawa 2006 str. 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B97F-C3CF-4402-A531-86A010EFB9E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rządzanie Teoria i praktyka, red. Naukowa A.K Koźmiński, W. Piotroski, wyd. PWN Warszawa 2006 str. 70-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9B86-853F-401D-89E4-50DFD48AFC0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690-42D7-45B0-8C4A-BC035FA9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C3F-C334-4107-B55C-A7E961E1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5B27-B2F7-4D58-8F5C-0CAC22CA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EFFB-1507-4E14-9C91-A85542CC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8BAD-F828-4E5B-9FFC-76F4D68E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C1EF-5C03-48BA-B2B5-769CBF41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1D5B-FE6D-464F-BE66-EBE39713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F0C-5102-4CEF-B746-FA91F5D9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1D5-6182-416C-A20F-725B6234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E11B-B57C-4399-BA7B-44045A12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0CC-251F-4B21-B3EE-7D5CF3D3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0E6-0948-452C-8044-45EA5B07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346C-53EE-428E-ABD2-2FEBDD26FEB9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fg\Dropbox\hotel stars logo.jpg"/>
          <p:cNvPicPr/>
          <p:nvPr/>
        </p:nvPicPr>
        <p:blipFill>
          <a:blip r:embed="rId1"/>
          <a:stretch/>
        </p:blipFill>
        <p:spPr>
          <a:xfrm>
            <a:off x="1187280" y="907920"/>
            <a:ext cx="63565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Skuteczny menedżer i lider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Role menedżera, cechy skutecznego lidera i menedże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205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76092"/>
                </a:solidFill>
                <a:latin typeface="Calibri"/>
              </a:rPr>
              <a:t>ROLE MENEDŻERA</a:t>
            </a:r>
            <a:endParaRPr b="1" lang="en-US" sz="4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640" y="-3160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Role interpersonal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5"/>
          <p:cNvSpPr/>
          <p:nvPr/>
        </p:nvSpPr>
        <p:spPr>
          <a:xfrm>
            <a:off x="250920" y="1268280"/>
            <a:ext cx="698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eprezentant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pełnienie funkcji ceremonialnych służących tworzeniu właściwego klimatu kontaktów wewnątrz i na zewnątrz organiz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zywódc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wytyczanie celów, mobilizacja zespołu do ich osiągnięcia oraz stworzenie zespołowi organizacyjnych i materialnych warunków dział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Łącznik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ułatwianie i organizowanie kontaktów ważnych dla prawidłowego funkcjonowania fir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D:\Data\awinniczuk\AppData\Local\Microsoft\Windows\Temporary Internet Files\Content.IE5\KRKMH3WR\MC900230987[1].wmf"/>
          <p:cNvPicPr/>
          <p:nvPr/>
        </p:nvPicPr>
        <p:blipFill>
          <a:blip r:embed="rId1"/>
          <a:stretch/>
        </p:blipFill>
        <p:spPr>
          <a:xfrm>
            <a:off x="6659640" y="3860640"/>
            <a:ext cx="221616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ymbol zastępczy tekstu 4"/>
          <p:cNvSpPr/>
          <p:nvPr/>
        </p:nvSpPr>
        <p:spPr>
          <a:xfrm>
            <a:off x="714240" y="-38736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Role informacyj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ytuł 1"/>
          <p:cNvSpPr/>
          <p:nvPr/>
        </p:nvSpPr>
        <p:spPr>
          <a:xfrm>
            <a:off x="714240" y="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76092"/>
                </a:solidFill>
                <a:latin typeface="Calibri"/>
              </a:rPr>
              <a:t>ROLE MENEDŻE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ole tekstowe 8"/>
          <p:cNvSpPr/>
          <p:nvPr/>
        </p:nvSpPr>
        <p:spPr>
          <a:xfrm>
            <a:off x="785880" y="1357200"/>
            <a:ext cx="642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nitor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przeszukiwanie otoczenia i wnętrza organizacji w celu uzyskania ważnych inform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ozdzielający informacje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– zapewnienie dostępu do tych samych zasobów informacji określonych dla konkretnych grup interesariusz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zecznik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informowanie otoczenia o sprawach organiz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zedsiębiorc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wprowadzanie innowacji i podejmowanie skalkulowanego ryzy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ole tekstowe 8"/>
          <p:cNvSpPr/>
          <p:nvPr/>
        </p:nvSpPr>
        <p:spPr>
          <a:xfrm>
            <a:off x="714240" y="1428840"/>
            <a:ext cx="7791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ierujący zaburzeniami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– rozwiązywanie problemów i wyciąganie z nich wniosków, zapobieganie przyszł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ozdzielający zasoby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– alokowanie zasobów zarówno ludzkich jak i finansowych do poszczególnych dziedzin działalnoś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egocjator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zawieranie umów z kontrahentami oraz gaszenie konflikt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Koźmiński A.K., Piotrowski W., (red.) </a:t>
            </a:r>
            <a:r>
              <a:rPr b="0" i="1" lang="pl-PL" sz="1400" spc="-1" strike="noStrike">
                <a:solidFill>
                  <a:srgbClr val="000000"/>
                </a:solidFill>
                <a:latin typeface="Calibri"/>
              </a:rPr>
              <a:t>Zarządzanie Teoria i praktyka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wyd. PWN Warszawa 2006 s. 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ymbol zastępczy tekstu 4"/>
          <p:cNvSpPr/>
          <p:nvPr/>
        </p:nvSpPr>
        <p:spPr>
          <a:xfrm>
            <a:off x="733320" y="-38736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Role decyzyj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ytuł 1"/>
          <p:cNvSpPr/>
          <p:nvPr/>
        </p:nvSpPr>
        <p:spPr>
          <a:xfrm>
            <a:off x="714240" y="792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76092"/>
                </a:solidFill>
                <a:latin typeface="Calibri"/>
              </a:rPr>
              <a:t>ROLE MENEDŻE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76092"/>
                </a:solidFill>
                <a:latin typeface="Calibri"/>
              </a:rPr>
              <a:t>Warunki zostania dobrym menedżerem</a:t>
            </a:r>
            <a:endParaRPr b="1" lang="en-US" sz="4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dporność na stres i zmęczeni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mbicja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mpatia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miejętność perswazji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miejętność szybkiego uczenia się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terdyscyplinarnoś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Koźmiński A.K., Piotrowski W., (red.) </a:t>
            </a:r>
            <a:r>
              <a:rPr b="0" i="1" lang="pl-PL" sz="1400" spc="-1" strike="noStrike">
                <a:solidFill>
                  <a:srgbClr val="000000"/>
                </a:solidFill>
                <a:latin typeface="Calibri"/>
              </a:rPr>
              <a:t>Zarządzanie Teoria i praktyka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wyd. PWN Warszawa 2006 ss. 70-74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76092"/>
                </a:solidFill>
                <a:latin typeface="Calibri"/>
              </a:rPr>
              <a:t>Cechy skutecznego lidera</a:t>
            </a:r>
            <a:endParaRPr b="1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91560" indent="-691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Umiejętność inspirowania i motywowania swojego zespołu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91560" indent="-6915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91560" indent="-691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odpowiedzialność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91560" indent="-691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91560" indent="-691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umiejętność słuchania podwładnych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91560" indent="-691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91560" indent="-691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posiadanie zdolności analitycznych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91560" indent="-691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91560" indent="-691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docenianie osiągnięć zespoł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91560" indent="-6915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284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ak energii i entuzjazm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kceptacja przeciętnych wynik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ak jasnej wizj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ak umiejętności trafnej oceny sytuacj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chęć do współprac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ówią jedno a robią drugi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przeciw wobec nowych pomysł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 wyciąganie wniosków z własnych błędów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ak zdolności interpersonalnych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ak wsparcia rozwoju zawodowego in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enger J, Folkman J., 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10 grzechów głównych popełnianych przez liderów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(artykuł numer F0906E) w: 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Harvard Business Review Polska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lipiec – sierpień 2009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ytuł 1"/>
          <p:cNvSpPr/>
          <p:nvPr/>
        </p:nvSpPr>
        <p:spPr>
          <a:xfrm>
            <a:off x="250920" y="260280"/>
            <a:ext cx="85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76092"/>
                </a:solidFill>
                <a:latin typeface="Calibri"/>
              </a:rPr>
              <a:t>Opinia praktyków – 10 grzechów głównych lideró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5:53:37Z</dcterms:created>
  <dc:creator>sfg</dc:creator>
  <dc:description/>
  <dc:language>en-US</dc:language>
  <cp:lastModifiedBy>User</cp:lastModifiedBy>
  <cp:lastPrinted>2014-04-14T09:49:28Z</cp:lastPrinted>
  <dcterms:modified xsi:type="dcterms:W3CDTF">2014-04-14T09:50:37Z</dcterms:modified>
  <cp:revision>32</cp:revision>
  <dc:subject/>
  <dc:title>Slajd 1</dc:title>
</cp:coreProperties>
</file>